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9C1-B8DE-4EBD-BF04-93D24553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DF3-E31F-4D12-AB0A-001DAAD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6C0-7BAB-44B3-B3CE-192EA478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2EF-94D0-410D-8D37-C1748BD6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835-5204-47D6-A1BD-EF3FE677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BF32-FAF7-44A6-A889-57289D4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D497-1129-48EE-85F7-0A4D11E2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18F8-F38F-456A-AB96-675AE05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392-99EC-40C7-A359-7775A389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8937-0319-4531-82D1-99746D2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AE9-720D-43BD-B0BC-C21A318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35D-215F-4B58-9677-B95D6EBE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C867-8082-4E5A-8EC3-E4E7849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6D6-FCC2-40B2-A039-E014B44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41F-FB82-4AEF-B621-F23C3C4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8093-92A4-459A-A312-BD10A636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3969-073B-4C4C-B6C2-2C46FF6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372-580E-440F-B1D8-A3AF7579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693-4F74-4792-9753-42BCC95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E4C-E175-47F7-88DE-94B6EE7E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B24-D597-49E3-9A0C-C0E68DD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FFB-3F6A-4218-8FBE-B45A4F0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682-CBA0-4461-9627-499ABD0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D54-84DD-4A20-925F-A20DC28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2A26-EAEA-42EC-A7C4-6F37E23996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816B-85BE-4169-8C01-B4A1FD605DD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pter 14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ECTIONAL CRI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6576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rging a Compromise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ugitive Slave Law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Compromise of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accused of being fugitive slaves denied Constitution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unpopular in Abolitionist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tical Upheaval, 1852–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459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and Democrats manage controversy in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alism destroys both parties in 185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arty System in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es need new issues after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credit for the nation's prospe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 to defend the Compromise of 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fail, become internally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2: Whig Winfield Scott loses in a landslide to Democrat Franklin Pie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5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DIVI7233TB1402"/>
          <p:cNvPicPr/>
          <p:nvPr/>
        </p:nvPicPr>
        <p:blipFill>
          <a:blip r:embed="rId1"/>
          <a:srcRect l="0" t="19133" r="0" b="4336"/>
          <a:stretch/>
        </p:blipFill>
        <p:spPr>
          <a:xfrm>
            <a:off x="304920" y="23623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 Raises a 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Stephen Douglas (D-IL) wants Kansas and Nebraska open to settlement to facilitate Transcontinental RR to Chic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4: Douglas’s Kansas-Nebraska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popular sovereignty to Kansas, Nebra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l Missouri Compromise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passes on sectional vo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ers outraged, Democratic party 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861048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 185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DIVI7233281"/>
          <p:cNvPicPr/>
          <p:nvPr/>
        </p:nvPicPr>
        <p:blipFill>
          <a:blip r:embed="rId1"/>
          <a:stretch/>
        </p:blipFill>
        <p:spPr>
          <a:xfrm>
            <a:off x="533520" y="1887480"/>
            <a:ext cx="8001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 Raises a 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-NE Act seen as North making concessions to South, but not getting anything in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g indecision causes party to disinteg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defection among Northern Democr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Nebraska” candidates sweep North in 1854 congressional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s become sole Southern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oil Party grows stronger and becomes Republ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Pierce’s effort to acquire Cuba provokes antislavery firest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Appeal to Nativism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now-Nothing Epis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-Nothings (American Party) appeals to anti-Catholic sent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4--American party sur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56 Know-Nothings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le cause:  No response to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gressional Election of 185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Picture 4" descr="DIVI7233282"/>
          <p:cNvPicPr/>
          <p:nvPr/>
        </p:nvPicPr>
        <p:blipFill>
          <a:blip r:embed="rId1"/>
          <a:stretch/>
        </p:blipFill>
        <p:spPr>
          <a:xfrm>
            <a:off x="1523880" y="1523880"/>
            <a:ext cx="6069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nsas and the Ris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 the Republic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arty unites former Whigs, Know-Nothings, Free-Soilers, Nor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s to Northern sectional sympath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s West for white, small farmers from Sla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 Kansas” helps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ggle among abolitionists, proslavery forces for control of Kansas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s use conflict to appeal for vo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romise of 18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conflict violently over slavery’s extension into the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politicians medi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eeding Kansa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Picture 4" descr="DIVI7233283"/>
          <p:cNvPicPr/>
          <p:nvPr/>
        </p:nvPicPr>
        <p:blipFill>
          <a:blip r:embed="rId1"/>
          <a:stretch/>
        </p:blipFill>
        <p:spPr>
          <a:xfrm>
            <a:off x="2666880" y="1447920"/>
            <a:ext cx="3733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tional Division in the Election of 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John C. F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 seeks votes only in fre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-Nothing Millard Fillmore champions sectional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 James Buchanan defends the Compromise of 1850, carries 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really 2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: Freemont vs. Buch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: Fillmore vs. Buch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make clear gains in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066680" y="1752480"/>
            <a:ext cx="7543800" cy="2670840"/>
          </a:xfrm>
          <a:prstGeom prst="rect">
            <a:avLst/>
          </a:prstGeom>
          <a:solidFill>
            <a:srgbClr val="9900ff"/>
          </a:solidFill>
          <a:ln w="1260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Candidate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arty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opular Vote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Electoral Vo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chan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,832,955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7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émon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public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,339,932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1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llmor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meric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871,731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(Know-Nothing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ouse Divided, 1857–186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al quarrel becomes virtually irreconcilable under Bucha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sense of deep cultural differences, opposing interests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ltural Section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Protestant denominations divide into Northern and Southern entities over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literature romanticizes plantatio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seeks intellectual, economic indepen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intellectuals condemn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e Tom's Cab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immense success in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red Scott C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ed Scott v. Sanf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857): Supreme Court can decide on slavery in the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 refuses narrow determination of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arg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tt has no right to sue because neither he nor any other black, slave or free, is a citi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has no authority to prohibit slavery in territories, Missouri Compromise unconstitu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ing supports Republican claim that an aggressive slave power dominated all branches of fede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Lecompton Controver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8688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7: Rigged Lecompton convention drafts constitution to make Kansas a 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defeats attempt by Buchanan, Southerners to admit Kan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constitution referred ba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of Kansas repudiate Lecompton Constitution by 6 to 1 margin in 18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incident more evidence to Republicans of slave power conspi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and Dred Scott case destroy Stephen Douglas’s hopes of unified Democratic party protecting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bating the Morality of Slave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ies “Southern plot” to extend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s to work for slavery’s 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s slavery as a mor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s white supremacy in response to Dou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glas accuses Lincoln of favoring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loses election, gains national re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uth's Crisis of Fe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5238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, 1859: John Brown raids Harper’s F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 executed, many Northerners see him as marty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nton Helper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ending Crisis of the So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ed poor white Southerners to overthrow planter dominance and abolish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d by House Republican leader John Sh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outherners, Republicans seen as radical abolit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ers convinced they must secede on election of Republican p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Republic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Lincoln nomin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state of Illinois crucial to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as mod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form to widen party’s app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ariffs for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homesteads for small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id for internal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wins by carrying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oblem of Slavery in the Mexican Ce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traditionally kept out of pol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ional power over slavery incl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conditions to make territories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bidding slavery in new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Cession of 1848 puts status of slavery in new territory into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Democr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hen Dou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support for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Breckenrid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protection of slavery in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Constitutional Union Par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7316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 John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s compromise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75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on of 1860: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2952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: Lincoln vs. Doug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: Bell vs. Brecken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s get electoral majority with all but 3 Northern electoral votes, although only 40% of popular vote nation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sees this as beginning of permanent minority status in American pol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outh political leaders launch secession m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DIVI7233290"/>
          <p:cNvPicPr/>
          <p:nvPr/>
        </p:nvPicPr>
        <p:blipFill>
          <a:blip r:embed="rId1"/>
          <a:stretch/>
        </p:blipFill>
        <p:spPr>
          <a:xfrm>
            <a:off x="2057400" y="457200"/>
            <a:ext cx="5038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ining th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a strict sectional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conflict of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rnalism, generosity,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defended on the grounds of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evangelical Protestan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erson free and respon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tyrannical and im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ilmot Proviso Launches the Free-Soil Mo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War mobilizes antislavery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mot Provi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 to Mexican War Appropriations Bill by David Wilmont (D-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 all blacks from new territories to preserve for white far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racism and anti-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so passes in House, fails in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over the Proviso foreshadows sectional conflict of 18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quatter Sovereignty and the Election of 184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76400"/>
            <a:ext cx="78487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 presidential candidate Lewis Cass proposes popular sovereig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allows territorial settlers to dec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many antislavery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-Soil candidate Martin Van Buren demands definite limits on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 Zachary Taylor takes no pos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ylor wins election with less than 5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4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4" descr="DIVI7233TB1401"/>
          <p:cNvPicPr/>
          <p:nvPr/>
        </p:nvPicPr>
        <p:blipFill>
          <a:blip r:embed="rId1"/>
          <a:srcRect l="0" t="20100" r="0" b="6185"/>
          <a:stretch/>
        </p:blipFill>
        <p:spPr>
          <a:xfrm>
            <a:off x="380880" y="2438280"/>
            <a:ext cx="845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ylor Takes 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ylor proposes admitting California and New Mexico as state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acts angr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time for planters to se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dmission would result in n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Nashville convention prompts fears of Southern se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ging a Compromi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459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Clay’s 1850 compromise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admitted as a free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trade prohibited in District of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fugitive slave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arged New Mexico territory to be admitted on basis of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Taylor opposes, VP Fillmore supports Clay’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850 Taylor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omise passed as separat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romise of 18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DIVI7233275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22:04Z</dcterms:created>
  <dc:creator>CMU</dc:creator>
  <dc:description/>
  <cp:keywords/>
  <dc:language>en-US</dc:language>
  <cp:lastModifiedBy>Matthew Myers</cp:lastModifiedBy>
  <cp:lastPrinted>2012-04-13T17:13:31Z</cp:lastPrinted>
  <dcterms:modified xsi:type="dcterms:W3CDTF">2010-11-09T14:46:17Z</dcterms:modified>
  <cp:revision>13</cp:revision>
  <dc:subject/>
  <dc:title>THE SECTIONAL CRISIS</dc:title>
</cp:coreProperties>
</file>